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26.jpeg" ContentType="image/jpeg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.png" ContentType="image/png"/>
  <Override PartName="/ppt/media/image2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dt" idx="7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 type="ftr" idx="7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 type="sldNum" idx="7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AA35-B225-4B0F-A0EE-73FB600A0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BAAF-BF9A-4CF8-BB56-C59BED396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PA is an agency of the United States Department of Defense responsible for the new technology development for use by the military. 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initial purpose is to find ways to address the US military’s concern about survivability of their communication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 1970s ARPANET became the foundation of today’s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Vinton Cerf and Robert Kahn developed the first description of TCP during 1973, and then in May 1974 the first formal description was publis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ICPA : American Institute of Certified Public Accoun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9EF4-5D68-4ED5-9C31-11A360D5C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*) : by Carol L. Cook; “How Computers Have Simplified Accounting”; http://www.yale.edu/ynhti/curriculum/units/1989/7/89.07.06.x.html#e; 18/05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4769-6330-4A91-A747-CCA4ABE86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*) : by Carol L. Cook; “How Computers Have Simplified Accounting”; http://www.yale.edu/ynhti/curriculum/units/1989/7/89.07.06.x.html#e; 18/05/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BAAE-DC96-4FAB-A9BC-BD53702F9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092-DB38-4A18-AB78-6C52DF46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3A1F-9F03-4232-83B5-C23576E5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384C3-2E91-412F-A8B3-775CFE01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6E90C-A023-474C-9631-093A624E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7120C-217F-4804-8A0F-8E589348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6C8CE-AA02-463D-A45D-26B51AD5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3FF24-808E-42C1-B301-D21DBC3F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6481B-F863-4EEA-9476-32131401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61BFC-B565-4EB5-9176-1283CE6F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877B0-EFEE-42CE-951D-32A17D73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E5999-8590-46AD-B91B-94238251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1B284-F1D1-4A3B-845D-97187DCE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274-E292-4C71-969A-9ECF91D2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EBCA3-2723-4EB2-A9E2-1524ADD7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10D98-FACA-4EDF-B861-0246706F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3603F-4E55-41D1-8239-83FAC9F9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FE841-0EA7-4948-BC7B-59D7BCA9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BE290-ADBE-4329-A49D-FE31B538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25EB8-549A-4F61-B1A4-823E191C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12F0D-DA42-4601-96EB-09A56EE1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2D6B0-08B0-4F4A-AEBC-2CA3C3E7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52335-A2E7-4273-8E4C-58DD44F1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41D3D-55AF-40F2-B201-9152DC29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54CA-7AA0-46B1-864D-52DE2A25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BA215-592D-490E-8CF0-87F1CAAC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EB97E-5B9C-4829-A08C-77C3878F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F9975-F86E-4A5A-8F05-C8A1782D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96CAB-91DD-47C0-BA86-BB90C760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FECB6-DE0B-4304-99B5-E1CBD355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BB90B-AA04-454A-A24E-D8CD5CA8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76C2B-89F0-4727-9A11-8BADDC87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6BE9D-7E32-4C6F-A48D-1DB5906F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703BC-7072-47FB-B0EE-DA9DECF3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0C4B4-BA42-43C3-8A5B-FD7EF670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9BBD-2BC3-4AE9-BE6D-21B343B1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BAFA7-34C7-41C3-AE2B-20C646BF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3A485-0C6D-4039-AE32-5AE1BF79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1B495-CAA9-42C9-8C9E-13D7799C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A617A-0CD4-4DE8-B4C8-ED3E2B56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A96A7-DCB6-48EA-B065-4F2E6B9E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E1736-F81A-41B9-9543-3E12E719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60041-F565-42FB-9A8B-638F83F1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8402A-089F-40BD-92F5-DFA4C71E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BB5DC-9A43-4229-BD6C-2A6F12DD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A410B-3092-4FB6-A758-001870D7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0878-1A06-4683-BA97-1D036C5D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829AA-7DBD-47EA-80F0-A79D85A6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55CC2-E226-4AA5-B25F-753DF74F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4DA7B-0B48-4274-A08C-60261D7C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B7CDE-C1DB-45EC-A73C-A27F9219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F089D-403E-4754-93B8-62664AD4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B6588-FBC9-4321-928F-09EF4273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0FE8D2-7DAF-444A-85E1-FC9A5F1B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47B96F-116B-4EAE-9B0D-5DC06A69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5EB2CC-45E7-45AD-B61D-E968550D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65F68E-FD00-40B4-B7A8-315D53A4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DA68-7EDE-4AD1-8FCF-CAFBBD8C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C5E8E-7848-4389-BFA3-706B55F8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638626-2685-48B9-91C6-DDA52D51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8AD037-30BB-48B2-A496-3ED795A6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20A75B-F368-4709-AC31-FF1FD8E7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029306-DEC0-4662-95BE-BA8394D8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140540-7CDA-4015-8F26-3C96915D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0BBA0F-8789-4899-BECE-23AAF297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305F91-4DCD-49C0-AB26-DF376634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C4AEE6-D871-48B4-A8E7-94BE5BA1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3424A6-8B73-4760-AD08-4C6D5B18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A6D0-B1AB-4AFF-A6E0-8454DD79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9AB7F2-0437-49C7-9462-7425EB3E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98CE0F-3CAB-49E8-B3FB-F82CDE4A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D291F2-884E-493E-AE27-D20D8AAE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D4464F-554A-4C27-8C66-988BD461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2CF69A-340B-43D4-9D6F-9401FBFA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310B93-1C2E-4516-BC33-D33585CB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811C5A-9557-432F-A07F-055762F2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B132F1-6352-494E-BC7D-31193C17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7441EC-4A1C-42DC-B86F-B20EC41E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AA46B5-F836-4C06-B452-10B9BCE6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DB3E-88DF-4E22-9979-FF259C38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CE2BA2-C989-49DF-9A3D-236428B7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25D2BC-329A-4458-8EA0-6B6C9378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9A6A41-8AAD-4DDA-92F3-E640349A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7089E6-DD88-40BA-B479-BE46D709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D0AAC4-0A2E-4F86-B791-729F0278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023B6A-4AB0-4CAB-AE90-27413163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9BD842-0959-4178-A3B4-0BED3194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E4A80A-F7C2-467C-888D-171CD64B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4DD7E9-EFF8-4257-AA43-C71D91F3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43782E-76F8-44A0-B368-1C5AE4AB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EE06-671E-4C70-B057-C14C8298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7C13D5-34FF-4EDC-B6A8-A972C02E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12B4D5-1568-4EA0-8FED-C8E8DFBA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0C4C6C-F60D-4E81-85DA-CBD6EBBF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4F6726-33DE-4033-8881-6188EA02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754957-22D8-4C59-B944-5338F81A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7A8747-460C-49AA-8159-AAEDC83C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0F52BD-15AC-47F9-A6B8-50637C0A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43E43B-B666-448B-B17A-DC30A1D0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2E592C-62FB-41ED-B0A3-0E35E1DD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18785B-54F4-4975-97B4-7BFE46D8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2FEA-4E46-4015-9B03-9683D6EF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28E612-ADFF-4099-A130-6F02E608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04300D-92E8-4A42-91F1-3639CDA4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BBC62B-78ED-4C2A-8B44-36D6E8CC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AC8215-90F4-4FC1-B5B7-26C4D7A3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7BAECC-284D-493D-89D7-9E208071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0B47EE-9AE5-44F3-AE47-C26014DE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B06E8F-C8A5-43C0-ACE5-E0D9C69B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F693D0-5F98-4342-98C5-7FBA648E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A2EACF-0B58-4960-AC87-3B618E61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42085C-0244-4A59-8CAE-F303A12F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096D-ACC3-4649-91C0-164A55B7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7388-F0A6-48BC-B0B9-D9D4B316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009837-CEEE-4A91-9F24-1DD36C42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8120F6-2B4F-46AC-A74D-A82FEA33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A31ED0-881A-4664-9854-A40A97F1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9462E9-52AD-4366-B2C6-9D9E95C6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A48D1A-1A09-4AC0-A151-DE9CD415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1D32C3-690B-468B-BB0E-2B0CC7F7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CE419F-9B77-404F-B65C-650AAE5F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F2553F-6A60-43A6-9BF2-DC5B3C23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61D33A-2831-4635-A9CE-E3505A6F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269FB9-4DD5-4D6B-8C3A-5E6878BD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195D-ABD2-4C18-92F1-F52116CF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39F557-9C7A-44F2-A7DC-A900FACD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D15DAD-99A0-443C-A970-25C92167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4C6B5D-A2A8-459C-AEEC-0E29E9BD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77E872-5C18-4219-86B7-D1167148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4FDB01-6910-41B6-9AB9-5F2EF169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90549A-CF62-402F-AB34-7A5BFE81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1B1E05-2FEE-426B-A458-F97E7AA3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739F-1E08-4986-852C-593C75B5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A447-AE80-4344-8BD5-826BAAC8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4871-82E2-4B4E-9372-7C58FCFF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433170B-0A27-49D9-8E81-192822EA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FCC382B-C2F2-4D90-A5D2-EACBBD17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7DCAA3D-3BBC-4733-B6A2-8FF6F9D4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14A0801-1BDE-4639-9419-F02C713A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CFDC55C-858F-4284-B6CD-C38A0951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5E5E688-DC79-4EDB-B740-3ADB4C1E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5117401-163E-4978-A7C9-35ECC61F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C02E815-ABDC-464C-BFA4-02CBED4C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A5D7FAD-14D0-4B43-B574-C4F7ADD9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ED45A-DAF4-4F6B-8FBA-9ECC7AF4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0AC0D24-7228-4C72-AF77-42E41E48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7139843-E40D-40F2-87A3-33B08F6B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27FCED9-D0FC-4237-ADC5-9CE6313B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3A48172-6208-4DB5-BC6B-42B03E88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E3906E4-3CBF-4F07-87C3-376F39D5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2EF8E00-36EB-4CB1-B7B3-D07FE071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5F03881-9A24-4927-99BC-47C8770E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CDE7AE3-ABBC-48CA-9C98-F2F1A633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0A03E6C-0BE5-4740-B8A7-7AF42634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F7A8CC7-DB4D-41CE-BF1D-586139D1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C3955-38F9-4B83-BBC3-39544DAD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713F389-4E4D-455D-AC05-FC9DB116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D8C6F80-A4D6-421C-82F0-BE1A8A86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7BEECC1-4B37-4545-AE3A-095EE452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19229BF-FC21-48F5-BFD0-11112BD0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C8D89A9-D14F-45F9-B59E-9FEBD860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3B2A442-45E0-40D1-BB91-A8E02742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D0C20E2-0E82-408A-96E4-D6B9A312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7FBF291-DEDB-4935-9A52-0CEA5999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6C22927-B450-44B5-81E7-B0216A9F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BE7F438-0188-4A16-BEAE-FA988AE9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6CD33-5A0F-4417-BF61-D06A7FE7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32C49CF-925D-47A2-887C-A466ADAF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D899957-45A4-41DF-B0CF-C49E4AC6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A49B862-9037-4D4C-B2F5-46D1CEAF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A608B9B-58A5-44CF-A153-FB91D96A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09A1542-EACC-45EF-8B66-435745F1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2B2A402-0D25-493B-B923-D3F1C992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8A70E0A-CAC9-434C-B251-F349F498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C08372C-2D11-4F32-B500-11EDB531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0B79898-B912-4A9E-9EFB-A9197607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E729B1D-1974-4490-BF9F-65169423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FA73F-EA2C-4CE4-A017-FE8AC4F0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A853041-06EC-4A47-9CA3-DE39A818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84AD9DD-C05C-4F61-A91C-615D0DDB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CADA535-B988-4E9A-9A62-0D6230AB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9868030-9BAB-43E3-B7E0-4ADF0276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44BEF11-3356-4AEE-A3A0-E6F0E02E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F957AA1-F2B5-4660-96E8-7AE7E12F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5AA6552-C8F9-4927-926B-9BE1096E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1F55B0E-5F2A-4F11-B5A8-3157AE18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B2367FB-CA52-4D79-BBD1-0164F746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02A5D-4DE3-41A3-8413-EDCE4238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A76-D505-48CB-BF94-3F83180A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79AFC-1003-404B-A712-B8F04BFB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D2476-08E5-409C-ABAE-5C5F4C78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8FF06-7BBA-451B-A268-3BA3401F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22D60-DBAC-45AB-8DE6-B89BBB38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18AC1-F26D-468D-A426-47107566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708F7-1F76-470D-A5F4-C9627D65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E9D84-6CE9-4AEF-9CD1-9D87631D2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54333-C0A7-458C-9D1D-5CAC055C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0A0B9-FF75-4035-B21E-D61F07C4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E96B0-9A68-4C91-9708-94E3B176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F04A-13FE-4328-8DBD-A28A1BA3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71505-DEAD-47AB-92D5-3FD053D1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D2FF2-2647-4CC2-B57E-92D09AC4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50112-9741-454E-A80A-EDFF604E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3E509-266C-4293-82A5-9ECC4132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F9AF2-31DC-4318-885F-55BEB469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B0127-8995-423A-91E0-4100D06E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BF8D6-45BD-4BFB-BDAD-325FD61E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EAC86-6E36-4B87-AC51-E0694340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AFD58-9A13-4AC8-852B-CEB52BEC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690A1-F5E4-46C6-A79E-82E0FF36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F262-1D0F-48D4-8CCF-88CA3D90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8E82E-299C-4303-B358-C5234888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8F67C-264A-401A-B82D-65FE4B3E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044B3-E0D6-454C-9457-699AD5E5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F04DD-A5B1-40C6-A7E7-C36A9CCD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8CEEF-4EAF-42CD-B5BF-A68F237B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A181C-EE8E-4A81-BFC2-479234B8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A7767-877A-43F0-A881-16E7EC78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07079-9A75-4EB3-9F17-B501A346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FF5AB-7EF0-41AC-ACCC-D42679D8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3BF33-310B-4C78-A384-9669D378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BF42-3915-4115-9AB6-6C0C4AD8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7B092-6BCF-4BFF-9D88-0126EA8A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8F948-C37F-461F-B379-92495B92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2C08A-CF9E-49AB-A128-D563983F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DAC29-077B-46FF-8A51-97AEB22B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E2158-EF39-473A-9CE4-3E2542E2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5A8C2-5391-40D7-9E7F-FA4A8DFB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747AA-3713-4835-BE16-9BDCDCA3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B8A2F-D9A7-4FAC-82B9-F591EB7B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FCB13-4DAA-4F58-BF33-6BBCF4D2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DE5C4-A829-46C2-99DC-39EC5B74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4ECD-B831-416A-896D-70F4BCF4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CA779-F4E9-4821-8BE1-4FBC0F78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C22B7-723B-44F9-AF30-6EA52625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C8FEA-D820-483C-883A-AE5935DE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2B972-5DE0-49FA-AA04-0CFBAFED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7F045-AF02-4FB8-AB4F-24BFBDC8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18598-D046-4A73-925E-526D9A47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9B6C5-3065-4BAA-84DF-4C5924D4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24F9A-B2E6-4477-BFC2-D74895F0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F66AB-5CC3-4934-8461-02A0FFDA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E8325-6CC4-45D9-9593-F8C7487D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C492-B5AB-437E-9E4D-76000E66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18C96-335A-4CD8-B6D7-83D18C06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0B34D-9A91-465A-90E5-6AA29646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73A09-A0A4-4BFB-BB1F-34E19794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CB258-7ECE-40C1-BE53-69F9A44F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B42E6-29A2-44E5-810A-979D0338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3DE26-3D63-408C-A867-5E956D72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21B41-BCEC-4000-9635-001DA72C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48623-E357-4D6E-9ACA-690AEA23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D69EF-51AC-42AA-A0AF-B4AA17B4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4E156-B24E-4F67-AC78-FCBED733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F2FC-02FD-4CF7-8343-2D76E240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A9253-2037-4418-8FB4-AEBB64E2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9CE8E-870C-4BB2-81B8-8E46C0F1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EAC1C-2554-4AB9-A05D-950FB310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F2AF5-0CDB-4D0A-BD6A-85672712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97F9C-1271-4A1A-95A5-F208F592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26019-8B64-4D3E-B84D-5B84C63A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174F8-1608-4327-B21F-ED45824B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B61D7-DE2A-4A3B-B47F-C8B699B7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1B81B-68FE-4EAD-91DF-BE3AE0A4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F3C1F-C979-45BF-87E0-D96E1C81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77.xml"/><Relationship Id="rId7" Type="http://schemas.openxmlformats.org/officeDocument/2006/relationships/slideLayout" Target="../slideLayouts/slideLayout278.xml"/><Relationship Id="rId8" Type="http://schemas.openxmlformats.org/officeDocument/2006/relationships/slideLayout" Target="../slideLayouts/slideLayout279.xml"/><Relationship Id="rId9" Type="http://schemas.openxmlformats.org/officeDocument/2006/relationships/slideLayout" Target="../slideLayouts/slideLayout280.xml"/><Relationship Id="rId10" Type="http://schemas.openxmlformats.org/officeDocument/2006/relationships/slideLayout" Target="../slideLayouts/slideLayout281.xml"/><Relationship Id="rId11" Type="http://schemas.openxmlformats.org/officeDocument/2006/relationships/slideLayout" Target="../slideLayouts/slideLayout282.xml"/><Relationship Id="rId12" Type="http://schemas.openxmlformats.org/officeDocument/2006/relationships/slideLayout" Target="../slideLayouts/slideLayout283.xml"/><Relationship Id="rId13" Type="http://schemas.openxmlformats.org/officeDocument/2006/relationships/slideLayout" Target="../slideLayouts/slideLayout284.xml"/><Relationship Id="rId14" Type="http://schemas.openxmlformats.org/officeDocument/2006/relationships/slideLayout" Target="../slideLayouts/slideLayout285.xml"/><Relationship Id="rId15" Type="http://schemas.openxmlformats.org/officeDocument/2006/relationships/slideLayout" Target="../slideLayouts/slideLayout286.xml"/><Relationship Id="rId16" Type="http://schemas.openxmlformats.org/officeDocument/2006/relationships/slideLayout" Target="../slideLayouts/slideLayout287.xml"/><Relationship Id="rId17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2FED-8B92-4270-BFCD-59834297AA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wireframeOverlay-Home.png"/>
          <p:cNvPicPr/>
          <p:nvPr/>
        </p:nvPicPr>
        <p:blipFill>
          <a:blip r:embed="rId5"/>
          <a:srcRect l="0" t="-93970" r="0" b="0"/>
          <a:stretch/>
        </p:blipFill>
        <p:spPr>
          <a:xfrm>
            <a:off x="179280" y="1182600"/>
            <a:ext cx="8786880" cy="5276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DirectionalButtons-RightOnly.png"/>
          <p:cNvPicPr/>
          <p:nvPr/>
        </p:nvPicPr>
        <p:blipFill>
          <a:blip r:embed="rId6"/>
          <a:stretch/>
        </p:blipFill>
        <p:spPr>
          <a:xfrm>
            <a:off x="7821720" y="53352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BDC7-67FF-4B6D-94BF-4D02A84E27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CA4C-A1F4-401C-B636-7600810E2E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8" descr="wireframeOverlay-TCFull.png"/>
          <p:cNvPicPr/>
          <p:nvPr/>
        </p:nvPicPr>
        <p:blipFill>
          <a:blip r:embed="rId5"/>
          <a:srcRect l="-198725" t="0" r="0" b="0"/>
          <a:stretch/>
        </p:blipFill>
        <p:spPr>
          <a:xfrm>
            <a:off x="177840" y="1179360"/>
            <a:ext cx="8788320" cy="527688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E0A7-E742-4D64-9B94-7C3820CD18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wireframeOverlay-SectionH.png"/>
          <p:cNvPicPr/>
          <p:nvPr/>
        </p:nvPicPr>
        <p:blipFill>
          <a:blip r:embed="rId5"/>
          <a:srcRect l="0" t="0" r="-91873" b="0"/>
          <a:stretch/>
        </p:blipFill>
        <p:spPr>
          <a:xfrm>
            <a:off x="182520" y="1179360"/>
            <a:ext cx="8785440" cy="527688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08A7-B63A-4008-B7B7-E96B95F6A0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0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1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2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46C7-78CC-4964-B82D-B2B677B7CB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4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4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45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D2B3-BDF6-45CB-BAC1-F4E281C52F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4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48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0FA5-ABD0-49CA-9432-8A7CBF2C8B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8" descr="wireframeOverlay-ContentCap.png"/>
          <p:cNvPicPr/>
          <p:nvPr/>
        </p:nvPicPr>
        <p:blipFill>
          <a:blip r:embed="rId5"/>
          <a:srcRect l="0" t="0" r="0" b="-135873"/>
          <a:stretch/>
        </p:blipFill>
        <p:spPr>
          <a:xfrm>
            <a:off x="182520" y="1179360"/>
            <a:ext cx="4229280" cy="527400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4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5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5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5152-F89F-4047-9E1B-A5966603FD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7AE6-2D4B-43BF-B68E-88AD8528FA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18252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5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5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E8E2-C4D6-4E5C-99C6-6FA1249448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8"/>
          <p:cNvSpPr/>
          <p:nvPr/>
        </p:nvSpPr>
        <p:spPr>
          <a:xfrm>
            <a:off x="182520" y="3281400"/>
            <a:ext cx="8788320" cy="317484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5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383544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5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6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6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6DBF-315B-433D-A87B-59F45F1689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6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6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6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0D28-ACBC-4892-8D9B-FB2E4CF8DB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8" descr="wireframeOverlay-VerticalTC.png"/>
          <p:cNvPicPr/>
          <p:nvPr/>
        </p:nvPicPr>
        <p:blipFill>
          <a:blip r:embed="rId5"/>
          <a:srcRect l="0" t="-93643" r="0" b="0"/>
          <a:stretch/>
        </p:blipFill>
        <p:spPr>
          <a:xfrm>
            <a:off x="7445520" y="1177920"/>
            <a:ext cx="1523880" cy="5275440"/>
          </a:xfrm>
          <a:prstGeom prst="rect">
            <a:avLst/>
          </a:prstGeom>
          <a:ln w="0">
            <a:noFill/>
          </a:ln>
        </p:spPr>
      </p:pic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6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6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6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E32E-1209-4E36-A36B-64A246281A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1030" name="Rectangle 8"/>
          <p:cNvSpPr/>
          <p:nvPr/>
        </p:nvSpPr>
        <p:spPr>
          <a:xfrm>
            <a:off x="182520" y="1179360"/>
            <a:ext cx="8788320" cy="527688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10" descr="DirectionalButtons-LeftOnlyOnly.png"/>
          <p:cNvPicPr/>
          <p:nvPr/>
        </p:nvPicPr>
        <p:blipFill>
          <a:blip r:embed="rId5"/>
          <a:stretch/>
        </p:blipFill>
        <p:spPr>
          <a:xfrm>
            <a:off x="7837560" y="5382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6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6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7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C300-F659-4EB9-A39A-0A35CBED68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6"/>
    <p:sldLayoutId id="2147483949" r:id="rId7"/>
    <p:sldLayoutId id="2147483950" r:id="rId8"/>
    <p:sldLayoutId id="2147483951" r:id="rId9"/>
    <p:sldLayoutId id="2147483952" r:id="rId10"/>
    <p:sldLayoutId id="2147483953" r:id="rId11"/>
    <p:sldLayoutId id="2147483954" r:id="rId12"/>
    <p:sldLayoutId id="2147483955" r:id="rId13"/>
    <p:sldLayoutId id="2147483956" r:id="rId14"/>
    <p:sldLayoutId id="2147483957" r:id="rId15"/>
    <p:sldLayoutId id="2147483958" r:id="rId16"/>
    <p:sldLayoutId id="2147483959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2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95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F036-8653-4F10-9EF2-3E7BA5250A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2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5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DF7E-8AA0-42A2-83CA-25064CF9CB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1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02E6-2E14-4D70-9513-D7B08D59FC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ACC1-8E26-470F-B80D-75CCF4D1BD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35F0-DDAB-4EC4-9DA1-610CFA7075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D529-4873-4631-A07E-9B93F4CC14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67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0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DC23-E596-4F59-A8F5-14004CD681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17600" y="2168640"/>
            <a:ext cx="8307360" cy="103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BUSINESS &amp; INTERNET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761760" y="3809880"/>
            <a:ext cx="79628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2f2f2"/>
                </a:solidFill>
                <a:latin typeface="Calibri"/>
              </a:rPr>
              <a:t>By </a:t>
            </a: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2f2f2"/>
                </a:solidFill>
                <a:latin typeface="Calibri"/>
              </a:rPr>
              <a:t>Pablo, Duy and Tao</a:t>
            </a: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BAC1-FD4E-41A9-B498-EAD5B8E4093E}" type="datetime">
              <a:rPr b="0" i="1" lang="en-US" sz="3100" spc="-1" strike="noStrike">
                <a:solidFill>
                  <a:srgbClr val="f2f2f2"/>
                </a:solidFill>
                <a:latin typeface="Calibri"/>
              </a:rPr>
              <a:t>07/29/26</a:t>
            </a:fld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pplication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YOB is a leading international provider of business management solu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ternet and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8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Picture 5" descr="Myob1.png"/>
          <p:cNvPicPr/>
          <p:nvPr/>
        </p:nvPicPr>
        <p:blipFill>
          <a:blip r:embed="rId2"/>
          <a:stretch/>
        </p:blipFill>
        <p:spPr>
          <a:xfrm>
            <a:off x="6143760" y="1285920"/>
            <a:ext cx="2143080" cy="12859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6" descr="Myob2.png"/>
          <p:cNvPicPr/>
          <p:nvPr/>
        </p:nvPicPr>
        <p:blipFill>
          <a:blip r:embed="rId3"/>
          <a:stretch/>
        </p:blipFill>
        <p:spPr>
          <a:xfrm>
            <a:off x="785880" y="3786120"/>
            <a:ext cx="707220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-COMMER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Defini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Utilities (innovation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</a:t>
            </a: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pecific fields 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15440" y="68544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E-COMMER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onsists of the </a:t>
            </a:r>
            <a:r>
              <a:rPr b="0" lang="en-US" sz="3600" spc="-1" strike="noStrike">
                <a:solidFill>
                  <a:srgbClr val="248aea"/>
                </a:solidFill>
                <a:latin typeface="Calibri"/>
              </a:rPr>
              <a:t>buy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and </a:t>
            </a:r>
            <a:r>
              <a:rPr b="0" lang="en-US" sz="4000" spc="-1" strike="noStrike">
                <a:solidFill>
                  <a:srgbClr val="008000"/>
                </a:solidFill>
                <a:latin typeface="Calibri"/>
              </a:rPr>
              <a:t>sell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f </a:t>
            </a:r>
            <a:r>
              <a:rPr b="0" lang="en-US" sz="3600" spc="-1" strike="noStrike">
                <a:solidFill>
                  <a:srgbClr val="e03133"/>
                </a:solidFill>
                <a:latin typeface="Calibri"/>
              </a:rPr>
              <a:t>product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3200" spc="-1" strike="noStrike">
                <a:solidFill>
                  <a:srgbClr val="5f0eaa"/>
                </a:solidFill>
                <a:latin typeface="Calibri"/>
              </a:rPr>
              <a:t>service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ver </a:t>
            </a:r>
            <a:r>
              <a:rPr b="0" lang="en-US" sz="3600" spc="-1" strike="noStrike">
                <a:solidFill>
                  <a:srgbClr val="ff6600"/>
                </a:solidFill>
                <a:latin typeface="Calibri"/>
              </a:rPr>
              <a:t>electronic systems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uch as the Internet and other computer networks (wikipedia.com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5" name="AutoShape 2"/>
          <p:cNvSpPr/>
          <p:nvPr/>
        </p:nvSpPr>
        <p:spPr>
          <a:xfrm>
            <a:off x="457200" y="2057400"/>
            <a:ext cx="8308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AU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What is E-commer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Utiliti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1. </a:t>
            </a:r>
            <a:r>
              <a:rPr b="0" lang="en-US" sz="1800" spc="-1" strike="noStrike">
                <a:solidFill>
                  <a:srgbClr val="263b86"/>
                </a:solidFill>
                <a:latin typeface="Calibri"/>
              </a:rPr>
              <a:t>Electronic funds transfer (EFT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Calibri"/>
              </a:rPr>
              <a:t>2. </a:t>
            </a:r>
            <a:r>
              <a:rPr b="0" lang="en-US" sz="1800" spc="-1" strike="noStrike">
                <a:solidFill>
                  <a:srgbClr val="263b86"/>
                </a:solidFill>
                <a:latin typeface="Calibri"/>
              </a:rPr>
              <a:t>Supply chain managemen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alibri"/>
              </a:rPr>
              <a:t>3. </a:t>
            </a:r>
            <a:r>
              <a:rPr b="0" lang="en-US" sz="1800" spc="-1" strike="noStrike">
                <a:solidFill>
                  <a:srgbClr val="263b86"/>
                </a:solidFill>
                <a:latin typeface="Calibri"/>
              </a:rPr>
              <a:t>Internet Market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alibri"/>
              </a:rPr>
              <a:t>4. </a:t>
            </a:r>
            <a:r>
              <a:rPr b="0" lang="en-US" sz="1800" spc="-1" strike="noStrike">
                <a:solidFill>
                  <a:srgbClr val="263b86"/>
                </a:solidFill>
                <a:latin typeface="Calibri"/>
              </a:rPr>
              <a:t>Online transaction process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5. </a:t>
            </a:r>
            <a:r>
              <a:rPr b="0" lang="en-US" sz="1800" spc="-1" strike="noStrike">
                <a:solidFill>
                  <a:srgbClr val="263b86"/>
                </a:solidFill>
                <a:latin typeface="Calibri"/>
              </a:rPr>
              <a:t>Electronic data interchange (EDI)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6. </a:t>
            </a:r>
            <a:r>
              <a:rPr b="0" lang="en-US" sz="1800" spc="-1" strike="noStrike">
                <a:solidFill>
                  <a:srgbClr val="263b86"/>
                </a:solidFill>
                <a:latin typeface="Calibri"/>
              </a:rPr>
              <a:t>Inventory management systems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8" name="AutoShape 2"/>
          <p:cNvSpPr/>
          <p:nvPr/>
        </p:nvSpPr>
        <p:spPr>
          <a:xfrm>
            <a:off x="41580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-COMME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9" name="Picture 4" descr="Errores-comunes-del-SEO-B2B.jpg"/>
          <p:cNvPicPr/>
          <p:nvPr/>
        </p:nvPicPr>
        <p:blipFill>
          <a:blip r:embed="rId2"/>
          <a:stretch/>
        </p:blipFill>
        <p:spPr>
          <a:xfrm>
            <a:off x="4495680" y="3124080"/>
            <a:ext cx="384192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pecific field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1" name="Content Placeholder 2" descr=""/>
          <p:cNvPicPr/>
          <p:nvPr/>
        </p:nvPicPr>
        <p:blipFill>
          <a:blip r:embed="rId2"/>
          <a:stretch/>
        </p:blipFill>
        <p:spPr>
          <a:xfrm>
            <a:off x="407880" y="2749680"/>
            <a:ext cx="8321760" cy="3504960"/>
          </a:xfrm>
          <a:prstGeom prst="rect">
            <a:avLst/>
          </a:prstGeom>
          <a:ln w="0">
            <a:noFill/>
          </a:ln>
        </p:spPr>
      </p:pic>
      <p:sp>
        <p:nvSpPr>
          <p:cNvPr id="1122" name="AutoShape 2"/>
          <p:cNvSpPr/>
          <p:nvPr/>
        </p:nvSpPr>
        <p:spPr>
          <a:xfrm>
            <a:off x="41580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-COMME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3" name="Picture 6" descr="diagram_supplychain.jpg"/>
          <p:cNvPicPr/>
          <p:nvPr/>
        </p:nvPicPr>
        <p:blipFill>
          <a:blip r:embed="rId3"/>
          <a:stretch/>
        </p:blipFill>
        <p:spPr>
          <a:xfrm>
            <a:off x="4419720" y="2743200"/>
            <a:ext cx="41148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415440" y="2437920"/>
            <a:ext cx="7890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Calibri"/>
              </a:rPr>
              <a:t>INTERNE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Important tool for business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Made business easier and faster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Have changed the way how companies encourage consumers 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8000"/>
                </a:solidFill>
                <a:latin typeface="Calibri"/>
              </a:rPr>
              <a:t>FUTURE </a:t>
            </a:r>
            <a:endParaRPr b="0" lang="en-US" sz="29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Companies working only through internet,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non presential,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online office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FERENCE LI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`Wikipedia – E-commerce´, http://en.wikipedia.org/wiki/E-commerce , 22/05/10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`Wikipedia – Internet´, http://en.wikipedia.org/wiki/Internet , 22/05/10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`Ultimosoft – Supply chain´, http://www.ultimosoft.com/industry/supplychain.html , 24/05/10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  <a:ea typeface="宋体"/>
              </a:rPr>
              <a:t>Carol L. Cook; How Computers Have Simplified Accounting´; http://www.yale.edu/ynhti/curriculum/units/1989/7/89.07.06.x.html#e; 18/05/10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www.accountingcoach.com , 18/05/10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www.myob.com, 18/05/10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44040" y="990360"/>
            <a:ext cx="225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EN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1143000" y="4038480"/>
            <a:ext cx="65419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b86"/>
                </a:solidFill>
                <a:latin typeface="Calibri"/>
              </a:rPr>
              <a:t>THANK YOU FOR LISTENING!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.=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130" name="Picture 4" descr="pirate63"/>
          <p:cNvPicPr/>
          <p:nvPr/>
        </p:nvPicPr>
        <p:blipFill>
          <a:blip r:embed="rId2"/>
          <a:stretch/>
        </p:blipFill>
        <p:spPr>
          <a:xfrm>
            <a:off x="2878200" y="228600"/>
            <a:ext cx="291312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ternet Introdu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odern us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onclus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feren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ternet Introduc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ternet Histo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RPA (Advanced Research Project Agency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 Foundation of Interne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6858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RPANE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CP (Transmission Control Protocol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Internet”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dern 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ACCOU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E-COMMERC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Defini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Old method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Use of computer and internet in Accou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15440" y="2057400"/>
            <a:ext cx="830916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What is Accounting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ART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f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record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lassify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and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ummariz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in a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significant manner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nd in terms of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money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transaction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and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event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which are, in part at least, of </a:t>
            </a:r>
            <a:r>
              <a:rPr b="0" lang="en-US" sz="3200" spc="-1" strike="noStrike">
                <a:solidFill>
                  <a:srgbClr val="3c653c"/>
                </a:solidFill>
                <a:latin typeface="Calibri"/>
              </a:rPr>
              <a:t>financial character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and </a:t>
            </a:r>
            <a:r>
              <a:rPr b="0" lang="en-US" sz="2800" spc="-1" strike="noStrike">
                <a:solidFill>
                  <a:srgbClr val="3c653c"/>
                </a:solidFill>
                <a:latin typeface="Calibri"/>
              </a:rPr>
              <a:t>interpreting the results thereof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(AICPA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092" name="Picture 5" descr="MoneyChart.jpg"/>
          <p:cNvPicPr/>
          <p:nvPr/>
        </p:nvPicPr>
        <p:blipFill>
          <a:blip r:embed="rId2"/>
          <a:stretch/>
        </p:blipFill>
        <p:spPr>
          <a:xfrm>
            <a:off x="5572080" y="214200"/>
            <a:ext cx="3286080" cy="1704960"/>
          </a:xfrm>
          <a:prstGeom prst="rect">
            <a:avLst/>
          </a:prstGeom>
          <a:ln w="0">
            <a:noFill/>
          </a:ln>
        </p:spPr>
      </p:pic>
      <p:sp>
        <p:nvSpPr>
          <p:cNvPr id="1093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nual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 bookkeeper kept the journals, the accounts receivable, the accounts payable and the ledgers in his best possible penmanship</a:t>
            </a:r>
            <a:r>
              <a:rPr b="0" lang="en-US" sz="2000" spc="-1" strike="noStrike" baseline="30000">
                <a:solidFill>
                  <a:srgbClr val="404040"/>
                </a:solidFill>
                <a:latin typeface="Calibri"/>
              </a:rPr>
              <a:t>(*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096" name="Picture 6" descr="Accounting[1].jpg"/>
          <p:cNvPicPr/>
          <p:nvPr/>
        </p:nvPicPr>
        <p:blipFill>
          <a:blip r:embed="rId2"/>
          <a:stretch/>
        </p:blipFill>
        <p:spPr>
          <a:xfrm>
            <a:off x="1357200" y="3929040"/>
            <a:ext cx="7072560" cy="2428920"/>
          </a:xfrm>
          <a:prstGeom prst="rect">
            <a:avLst/>
          </a:prstGeom>
          <a:ln w="0">
            <a:noFill/>
          </a:ln>
        </p:spPr>
      </p:pic>
      <p:sp>
        <p:nvSpPr>
          <p:cNvPr id="1097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Computerise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One of the first accounting programs was 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Lotus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1-2-3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(1983)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mall test</a:t>
            </a:r>
            <a:r>
              <a:rPr b="0" lang="en-US" sz="2400" spc="-1" strike="noStrike" baseline="30000">
                <a:solidFill>
                  <a:srgbClr val="404040"/>
                </a:solidFill>
                <a:latin typeface="Calibri"/>
              </a:rPr>
              <a:t>(*)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00" name=""/>
          <p:cNvGraphicFramePr/>
          <p:nvPr/>
        </p:nvGraphicFramePr>
        <p:xfrm>
          <a:off x="2743200" y="3627360"/>
          <a:ext cx="5553000" cy="2773440"/>
        </p:xfrm>
        <a:graphic>
          <a:graphicData uri="http://schemas.openxmlformats.org/drawingml/2006/table">
            <a:tbl>
              <a:tblPr/>
              <a:tblGrid>
                <a:gridCol w="2751120"/>
                <a:gridCol w="28018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-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 minutes to set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 minutes to perform the compu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 seconds to load the spreadsh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minutes to input the inform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ss than one second for it to be tabulated and prin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</a:tr>
            </a:tbl>
          </a:graphicData>
        </a:graphic>
      </p:graphicFrame>
      <p:sp>
        <p:nvSpPr>
          <p:cNvPr id="1101" name="AutoShape 2"/>
          <p:cNvSpPr/>
          <p:nvPr/>
        </p:nvSpPr>
        <p:spPr>
          <a:xfrm>
            <a:off x="38088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ternet and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rain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re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asy to get acces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hanging the way people learn account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4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5" name="Picture 6" descr="AC1.png"/>
          <p:cNvPicPr/>
          <p:nvPr/>
        </p:nvPicPr>
        <p:blipFill>
          <a:blip r:embed="rId2"/>
          <a:stretch/>
        </p:blipFill>
        <p:spPr>
          <a:xfrm>
            <a:off x="642960" y="4643280"/>
            <a:ext cx="7715160" cy="1071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1:04:35Z</dcterms:created>
  <dc:creator>Microsoft</dc:creator>
  <dc:description/>
  <dc:language>en-US</dc:language>
  <cp:lastModifiedBy>Office 2004 Test Drive User</cp:lastModifiedBy>
  <dcterms:modified xsi:type="dcterms:W3CDTF">2010-05-25T22:27:45Z</dcterms:modified>
  <cp:revision>44</cp:revision>
  <dc:subject/>
  <dc:title>Internet</dc:title>
</cp:coreProperties>
</file>